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113E-42CC-4985-81D9-1405F27D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7CE-6C01-468F-AACE-F53B6539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C029-C300-4F77-B556-CB4995D4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14B-A784-483C-94E5-D77BD3A1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966-D52A-4A78-BA3C-03D07E41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54E-A521-4D7D-830A-EDE8341C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B756-DFC9-45EE-8B35-96839DE6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A3EA-F6E6-42E9-93B4-44EC6BBF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06A-CBAC-43A8-8C6A-EBFF12D0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CF3-5E79-44E0-999D-B5928522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7EB-53EB-4B8F-8266-7677F965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40D-6779-43EE-B37A-F2E9C183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852D-9660-416E-A9DD-159C98C022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5732280"/>
            <a:ext cx="4140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95959"/>
                </a:solidFill>
                <a:latin typeface="Myriad Pro"/>
              </a:rPr>
              <a:t>www.FreepptBackgrounds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6"/>
          <p:cNvSpPr/>
          <p:nvPr/>
        </p:nvSpPr>
        <p:spPr>
          <a:xfrm>
            <a:off x="684360" y="5229360"/>
            <a:ext cx="60483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9933"/>
                </a:solidFill>
                <a:latin typeface="Myriad Pro"/>
              </a:rPr>
              <a:t>Free PPT Backg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</cp:lastModifiedBy>
  <dcterms:modified xsi:type="dcterms:W3CDTF">2013-07-21T06:55:53Z</dcterms:modified>
  <cp:revision>776</cp:revision>
  <dc:subject/>
  <dc:title>Free PPT Backgrounds</dc:title>
</cp:coreProperties>
</file>